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697761-1BCD-4DC6-AE75-8AFBEBDA4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37E6CF-BFE3-474C-991B-0B22BFF30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AACD4B7-F174-4815-8CAB-BF44A6E43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584-9B81-4C48-9982-99843407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A87-6D88-42DE-A948-6874CE76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E59-D5B5-4A97-872A-ADECF610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37C-2424-420F-9359-0888C53C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2F1-1E4E-4CA9-B0F8-E409C86F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FB6-CAD4-4087-BC70-F63F42C5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630-1636-4DC0-B318-03320FEA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7CE-0A21-4C9C-B481-3329FED9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8B9-7329-4A88-BBCC-262C6600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457-AF9E-4C17-84A2-4014B91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905-BD73-41CB-8235-8D31CD7A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E95-F9A9-482E-8992-5030ED1F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FB781C7-E9F0-4E81-A7E3-8323A06A528F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505A70A-D338-4AD0-92B3-310F804887D6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ust decide where each spelling word belongs in a dictionary: Beginning (A-I), Middle (J-S), End (T-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aurus Prac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eate a list of synonyms (words that mean the same or about the same) for 8 spelling w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a thesaurus if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ange 8 nouns into plural nouns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king becomes the k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ie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in cursive tw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ust write a story using 6 words that has a character create a problem (cause) and how the problem effects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he Great Ball Game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8:54Z</dcterms:created>
  <dc:creator> </dc:creator>
  <dc:description/>
  <dc:language>en-US</dc:language>
  <cp:lastModifiedBy>Mits Mits</cp:lastModifiedBy>
  <cp:lastPrinted>2009-01-26T19:09:14Z</cp:lastPrinted>
  <dcterms:modified xsi:type="dcterms:W3CDTF">2010-02-25T13:34:42Z</dcterms:modified>
  <cp:revision>7</cp:revision>
  <dc:subject/>
  <dc:title>Slide 1</dc:title>
</cp:coreProperties>
</file>